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EBD-FA08-4E85-8BBA-9F3EC5B4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E88-C274-436D-AF2C-E370D99E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21A-B46F-47C5-9410-75AA3BFC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2D3-88A3-40B0-BE26-3654E6D7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1E12-F92C-4828-ADFC-9039FEBB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47C0-A1DA-463B-B592-8AB21A1E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A409-593A-4353-A81D-798B6638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018B-FEB0-46E4-A5B1-D4D89930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92C4-FC3C-4F43-BECB-01887214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E2C1-53A0-41D6-B3AC-443459CB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79EB-C3E9-4C32-88F9-EFD4D7AC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0D5-D03F-40D6-8A82-9D4A6C0C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51DF-6558-4D0E-812F-1FEB7C97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230C-86B2-4AC8-B084-3CE5C76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A845-14F1-4130-A53F-E35BC348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B4C8-9686-4E00-BA2B-CF7F3282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EDD0-AC91-4758-B39B-D668D3E7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758-0443-4A7E-B48D-E54097BE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EC6-0148-4422-9C07-CC959D3F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DFE-9160-41D5-9CB8-CD8C0537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477-83D6-4632-8F7B-52B66D64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A19-AC45-441D-B0AA-EF56D0E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1EE-5F6E-4C52-A009-8069E95F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EC6-D102-458C-B702-51D69363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EEDF-8C2E-4187-B3C1-15A88F52561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7C35-36DF-42EC-99A0-A9374AD1D37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¡Las Comidas! (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51920" y="5181480"/>
            <a:ext cx="3886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" sz="1800" spc="-1" strike="noStrike">
                <a:solidFill>
                  <a:srgbClr val="07fb18"/>
                </a:solidFill>
                <a:latin typeface="Arial Black"/>
              </a:rPr>
              <a:t>Por</a:t>
            </a:r>
            <a:r>
              <a:rPr b="0" lang="en-US" sz="3200" spc="-1" strike="noStrike">
                <a:solidFill>
                  <a:srgbClr val="07fb18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07fb18"/>
                </a:solidFill>
                <a:latin typeface="Arial Black"/>
              </a:rPr>
              <a:t>Alicia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fb18"/>
                </a:solidFill>
                <a:latin typeface="Arial Black"/>
              </a:rPr>
              <a:t>Maradiaga</a:t>
            </a:r>
            <a:br>
              <a:rPr sz="1800"/>
            </a:br>
            <a:r>
              <a:rPr b="0" lang="es-ES" sz="1200" spc="-1" strike="noStrike">
                <a:solidFill>
                  <a:srgbClr val="07fb18"/>
                </a:solidFill>
                <a:latin typeface="Arial Black"/>
              </a:rPr>
              <a:t>F período españo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Desayuno :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Para el desayuno me gusta comer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Panqueques de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arándano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br>
              <a:rPr sz="3200"/>
            </a:b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Jugo de arándan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Tocino y huevo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467480" y="5551560"/>
            <a:ext cx="1676520" cy="13064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39625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Almuerzo :D (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a La Almuerzo me gusta comer:</a:t>
            </a:r>
            <a:br>
              <a:rPr sz="3200"/>
            </a:b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salada César </a:t>
            </a:r>
            <a:r>
              <a:rPr b="0" lang="es-ES" sz="1600" spc="-1" strike="noStrike">
                <a:solidFill>
                  <a:srgbClr val="ffcc00"/>
                </a:solidFill>
                <a:latin typeface="Arial Black"/>
              </a:rPr>
              <a:t>y chocolate con leche con una pajita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Turquía y salsa picante sándwich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Arial Black"/>
              </a:rPr>
              <a:t>Chili perro ques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746748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5122800"/>
            <a:ext cx="1905120" cy="1735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2666880" y="5329080"/>
            <a:ext cx="1600200" cy="1528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4800600" y="4419720"/>
            <a:ext cx="162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ena :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a el La Cena me gusta comer:</a:t>
            </a:r>
            <a:br>
              <a:rPr sz="3200"/>
            </a:br>
            <a:br>
              <a:rPr sz="3200"/>
            </a:br>
            <a:r>
              <a:rPr b="0" lang="es-ES" sz="1600" spc="-1" strike="noStrike">
                <a:solidFill>
                  <a:srgbClr val="ffcc00"/>
                </a:solidFill>
                <a:latin typeface="Arial Black"/>
              </a:rPr>
              <a:t>Macarrones con queso d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0" lang="es-ES" sz="1600" spc="-1" strike="noStrike">
                <a:solidFill>
                  <a:srgbClr val="ffcc00"/>
                </a:solidFill>
                <a:latin typeface="Arial Black"/>
              </a:rPr>
              <a:t>Patatas gratinada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Cerveza de raíz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31520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029200" y="5410080"/>
            <a:ext cx="17049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2:57Z</dcterms:created>
  <dc:creator>maradiagaali</dc:creator>
  <dc:description/>
  <dc:language>en-US</dc:language>
  <cp:lastModifiedBy>maradiagaali</cp:lastModifiedBy>
  <dcterms:modified xsi:type="dcterms:W3CDTF">2011-04-14T15:02:09Z</dcterms:modified>
  <cp:revision>3</cp:revision>
  <dc:subject/>
  <dc:title>Las Comidas (: </dc:title>
</cp:coreProperties>
</file>